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B32E-D1C6-4F9E-8108-41DBD498E6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AB1C-3A47-4D48-8F30-3EF7020C93A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757F-315A-4A67-BC87-43391DD5AFE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90189-F7BB-49CC-B629-40B4BA65362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4F49-333F-478C-9FB0-742F3B97137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82FB3-CEB7-4DA6-B781-CA52D8E2592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ight</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151040" y="6323400"/>
            <a:ext cx="155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153200" y="6323400"/>
            <a:ext cx="154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13592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13808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10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1294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151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459160" y="966960"/>
            <a:ext cx="4225680" cy="49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12008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112880" y="6323400"/>
            <a:ext cx="1595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01Z</dcterms:modified>
  <cp:revision>42</cp:revision>
  <dc:subject/>
  <dc:title>lesson three</dc:title>
</cp:coreProperties>
</file>