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97620-1E83-4767-9919-2A146AB76E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7641F-3A78-4307-9935-BC700156D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D1A4E-1355-461D-B554-637DA3AB1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372E4-DA23-456E-B87F-033E366DF2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ED36F-9537-4D15-9B91-F4399E528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0B25E-B310-423A-8EDE-89EA0C79C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eight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aving and investing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bon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bond is an “IOU,” certifying that you loaned money to a government or corporation and outlining the terms of repay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w they wor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er may purchase bond at a discount. The bond has a fixed interest rate for a fixed period of time. When the time is up, the bond is said to have “matured” and the buyer may redeem the bond for the full face valu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rpo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ld by private companies to raise mone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company goes bankrupt, bondholders have first claim to the assets, before stockholder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unicip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ssued by any non-federal govern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est paid comes from taxes or from revenues from special projects. Earned interest is exempt from federal income tax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deral govern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safest investment you can make. Even if U.S. government goes bankrupt, it is obligated to repay bon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7075800" y="6323400"/>
            <a:ext cx="163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mutual fun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fessionally managed portfolios made up of stocks, bonds, and other invest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s buy shares, and fund uses money to purchase stocks, bonds, and other invest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fits returned to shareholders monthly, quarterly, or semi-annually in the form of dividen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small investors to take advantage of professional account management and diversification normally only available to large investo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ypes of mutual fun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alance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ludes a variety of stocks and bon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lobal Bon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corporate bonds of companies from around the worl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lobal Stock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stocks from companies in many parts of the worl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rowth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mphasizes companies that are expected to increase in value; also has higher ris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come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atures stock and bonds with high dividends and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dustry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vests in stocks of companies in a single industry (such as technology, health care, banking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unicipal Bon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atures debt instruments of state and local govern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egional Stock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volves stocks of companies from one geographic region of the world (such as Asia or Latin America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7072560" y="6323400"/>
            <a:ext cx="163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tock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ock represents ownership of a corporation. Stockholders own a share of the company and are entitled to a share of the profits as well as a vote in how the company is ru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earnings are ma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profits may be divided among shareholders in the form of dividends. Dividends are usually paid quarter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arger profits can be made through an increase in the value of the stock on the open mark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the market value goes up, the gain can be considera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ey is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market value goes down, the loss can be considera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lecting and managing stock often requires study and the help of a good brokerage firm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706464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al estat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ys to inve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a house, live in it, and sell it later at a prof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income property (such as an apartment house or a commercial building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d rent 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land and hold it until it rises in valu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cellent protection against inflation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be difficult to convert into cash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specialized type of investment requiring study and knowledge of busines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apital gains: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fits from the sale of a capital asset such as stocks, bonds, or real estate. These profits are tax-deferred; you do not have to pay the tax on these profits until the asset is sold. Long-term capital gains occur on investments held more than 12 months. Short-term capital gains occur on investments held les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an 12 month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70768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tirement plan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ans that help individuals set aside money to be used after they reti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deral income tax not immediately due on money put into a retirement account, or on the interest it mak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ome tax paid when money is withdraw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nalty charges apply if money is withdrawn before retirement age, except under certain circumstanc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ome after retirement is usually lower, so tax rate is low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dividual Retirement Account (IRA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person to contribute up to $6,000 of pre-tax earnings per year. Contributions can be made in installments or in a lump sum. Those over 50 can contribute up to $7,000 pre-tax annual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oth IRA (also called the IRA Plu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ile the up to $6,000 annual contribution to this plan is not tax-deductible, the earnings on the account are tax-free after five years. The funds from the Roth IRA may be withdrawn after age 59 1/2, if the account owner is disabled, for educational expenses, or for the purchase of a first hom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401(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person to contribute to a savings plan from his or her pre-tax earnings, reducing the amount of tax that must be paid. Employer matches contributions up to a certain leve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Keogh Pla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self-employed person to set aside up to 25% of incom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but not more than $56,000 per year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701676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M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IRAs – an example of a return on invest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ibutions made only between ages of 22–30 (9 year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2,000 contributed each yea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tal investment of $18,0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 an interest rate of 9%, by age 65 will have $579,46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ibutions made only between ages of 31–65 (35 year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2,000 contributed each yea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tal investment of $70,0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 an interest rate of 9%, by age 65 will have $470,24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7029720" y="6323400"/>
            <a:ext cx="1686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N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mparing savings and investment plan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7032240" y="6323400"/>
            <a:ext cx="168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O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04920" y="914400"/>
          <a:ext cx="8381880" cy="5022720"/>
        </p:xfrm>
        <a:graphic>
          <a:graphicData uri="http://schemas.openxmlformats.org/drawingml/2006/table">
            <a:tbl>
              <a:tblPr/>
              <a:tblGrid>
                <a:gridCol w="1396800"/>
                <a:gridCol w="1397160"/>
                <a:gridCol w="1396800"/>
                <a:gridCol w="1295640"/>
                <a:gridCol w="1498320"/>
                <a:gridCol w="1397160"/>
              </a:tblGrid>
              <a:tr h="425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strume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urit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sk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iel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inimum balanc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xable?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vings Accou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medi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 if insure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tificate of Deposi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 days or mor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 if insure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rpo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–3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nicipal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–2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5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federal,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 stat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ck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medi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.S. Treasur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ill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year or les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–1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–3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tual Fu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ual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irement Fu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en buyer i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years ol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 maturit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voiding investment fraud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ach year, billions of dollars are lost to fraudulent investments. Some of the most comm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llegal pyramids, insider trading, and unlicensed investment brok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igh-risk “penny” stocks and fraudulent secur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audulent franchises and business opportun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net services, 900-numbers, and high-tech investments promising high profits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nimal ris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pportunities to invest in movie deals and other entertainment ventures with promises of guaranteed profits and failure to disclose ris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o protect yourself from becoming a victim of investment fraud, take the following action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come informed about investments and industries before invest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alk with others who have made similar investm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btain information from state and federal regulatory agen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ever buy over the phone without first investigating the situ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oid investment opportunities promising large returns in a short amount o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me that seem “too good to be true”—they probably a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or additional information, contact the following websit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ftc.gov; www.fraud.org; www.sec.gov; www.nasaa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7061400" y="6323400"/>
            <a:ext cx="1665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P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ay yourself first (a little can add up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7058160" y="6323400"/>
            <a:ext cx="167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 little can add up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ave this each week … at % interest … in 10 years you’ll hav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7.00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4,743.0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4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9,486.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1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14,229.1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8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18,972.1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5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23,715.1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buy … two fast food meals or save $7.00 this wee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buy … two small cheese pizzas or one large pepperoni pizza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delivered or one new CD or save $14.00 this wee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can you give up to save for your financial goal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savings accounts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assbook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positor receives a booklet in which deposits, withdrawals, and interest are record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erage interest rate is lower at banks and savings and loans than at credit un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ds are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tatement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sically the same as a passbook account, except depositor receives monthly state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instead of a passboo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counts are usually accessible through 24-hour automated teller machines (ATMs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rates are the same as passbook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ds are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terest-earning checking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bines benefits of checking and saving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positor earns interest on any unused money in his/her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705888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money-market deposit accoun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ecking/savings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rate paid built on a complex structure that varies with size of balance and curr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level of market interest rat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access your money from an ATM, a teller, or by writing up to three checks a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mmediate access to your mone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rade-off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ually requires a minimum balance of $5.000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mited number of checks can be written each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erage yield (rate of return) higher than regular savings accou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7047000" y="6323400"/>
            <a:ext cx="1666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ertificates of deposit (CDs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ank pays a fixed amount of interest for a fixed amount of money during a fixed amount of time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o risk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mpl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o fee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ffers higher interest rates than savings account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rade-off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Restricted access to your money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drawal penalty if cashed before expiration dat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(penalty might be higher than the interest earned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ypes of certificates of deposi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1. Rising-rate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higher rates at various intervals, such as every six month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2. Stock-indexed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earnings based on the stock market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3. Callable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higher rates and long-term maturities, as high as 10–15 years. However, th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bank may “call” the account after a stipulated period, such as one or two years, if interest rates drop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4. Global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bine higher interest with a hedge on future changes in the dollar compared to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other currencie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5. Promotional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ttempt to attract savers with gifts or special rate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705348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simple and compound interest are calculated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mple interest calcu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ollar Amount x Interest rate x Length of Time (in years) = Amount Earn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had $100 in a savings account that paid 6% simple interest, during the first year you would earn $6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00 x 0.06 x 1 = $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 the end of two years you would have earned $12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ccount would continue to grow at a rate of $6 per year, despite the accumulated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mpound interest calcu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is paid on original amount of deposit, plus any interest earn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(Original $ Amount + Earned Interest) x Interest Rate x Length of Time = Amount Earn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had $100 in a savings account that paid 6% interest compounded annually, the first year you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would earn $6.00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0 x 0.06 x 1 = $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0 + $6 = $10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th compound interest, the second year you would earn $6.36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alculation the second year would look like thi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6 x 0.06 x 1 = $6.3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6 + 6.36 = $112.3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0552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hoosing a savings accou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ctors that determine the dollar yield on an account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est rate (also called rate of return, or annual yiel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l money earned comes from this facto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following factors reduce money earned and can even turn it into a los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es, charges, and penal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ually based on minimum balance requirements, or transaction fe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lance requirem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accounts require a certain balance before paying any interes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n money-market accounts, most banks will pay different interest rates for differ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size balances. (Higher balance earns a higher rate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lance calculation metho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ost calculate daily. Some use average of all daily balanc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7075440" y="6323400"/>
            <a:ext cx="165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ruth in Savings Ac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Truth in Savings Act (Federal Reserve Regulation D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quires financial institutions to disclose the following information on savings account plans they offer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ees on deposit accou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nterest 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 terms and condi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annual percent yield (APY), which is the percentage rate expressing the tot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amount of interest that would be received on a $100 deposit based on the annu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rate and frequency of compounding for a 365-day period. Truth in Saving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defines the year as 365 days rather than 360, 366, or some other number. Thi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law eliminates confusion caused by the more than eight million variations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interest calculation methods previously used by financial institu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7040160" y="6323400"/>
            <a:ext cx="167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rule of 72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7037640" y="6323400"/>
            <a:ext cx="1680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w many years will it take to double my money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72 DIVIDED B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EARS TO DOUBLE A SUM OF MONE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EST R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e.g. for 6%, use 6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t what interest rate will my money double in a set number of years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72 DIVIDED B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NTEREST RATE REQUIR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EARS TO DOU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VEST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Line 11"/>
          <p:cNvSpPr/>
          <p:nvPr/>
        </p:nvSpPr>
        <p:spPr>
          <a:xfrm>
            <a:off x="838080" y="36576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Line 12"/>
          <p:cNvSpPr/>
          <p:nvPr/>
        </p:nvSpPr>
        <p:spPr>
          <a:xfrm>
            <a:off x="762120" y="190512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8T18:28:34Z</dcterms:modified>
  <cp:revision>54</cp:revision>
  <dc:subject/>
  <dc:title>lesson three</dc:title>
</cp:coreProperties>
</file>