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9C7F-343A-4F3F-BF3F-6B49AAAE7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729D-D34C-4879-BD7B-AFF90A548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E3CA-C4F0-42E1-B9B9-ACA0946F2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7604-431F-4742-939C-CDF54AF12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709B-6424-447A-9BF5-DF5B8368A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FE1A-D057-4C4F-B8B4-CF1B053D1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05348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9164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08984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0628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7220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672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06284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45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23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onsumer Credit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0696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7220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0574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20T18:25:35Z</dcterms:modified>
  <cp:revision>33</cp:revision>
  <dc:subject/>
  <dc:title>lesson three</dc:title>
</cp:coreProperties>
</file>