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6C92-1A10-46A6-8623-1C8F6A0CA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1C39-7403-46FD-81C0-EB2A3158D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16B5-5EFC-468C-BA43-1C1D11565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60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,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’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22:38:05Z</dcterms:modified>
  <cp:revision>32</cp:revision>
  <dc:subject/>
  <dc:title>lesson three</dc:title>
</cp:coreProperties>
</file>